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826-8779-4E1B-9671-FF7AE6C7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8A7-471C-4E39-B416-566E5A93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D48-DCE9-46C1-9ACC-AFCB0EF4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D1E-307B-4A55-97E7-3531B22E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353-E851-48B1-940E-40E4B40D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443-3EB0-4DB2-88EF-7CECD43A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67D-0224-4EE8-9131-E4684D23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C96-238A-4FC0-AB50-47A9372E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15A-FC19-4EC4-8892-AFB7B5DB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1B4-0DE8-49E9-884D-A23BAA3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273-E628-4564-90BD-422A2E81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3E3-4D59-409B-A3DC-2319AEA0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23EB-FDA0-43AF-A4D3-8DBF5425F9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4475-CECE-4A98-8ADB-3E661ABA1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oon 3"/>
          <p:cNvSpPr/>
          <p:nvPr/>
        </p:nvSpPr>
        <p:spPr>
          <a:xfrm>
            <a:off x="304920" y="1295280"/>
            <a:ext cx="297180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5"/>
          <p:cNvSpPr/>
          <p:nvPr/>
        </p:nvSpPr>
        <p:spPr>
          <a:xfrm>
            <a:off x="1828800" y="3276720"/>
            <a:ext cx="632448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oon 6"/>
          <p:cNvSpPr/>
          <p:nvPr/>
        </p:nvSpPr>
        <p:spPr>
          <a:xfrm>
            <a:off x="8001000" y="2743200"/>
            <a:ext cx="7621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2133720" y="609480"/>
            <a:ext cx="1981080" cy="26784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4991040" y="3375000"/>
            <a:ext cx="2571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ological Awarenes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(Blevins, Rosner and Words their Wa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 flipV="1">
            <a:off x="4648320" y="609120"/>
            <a:ext cx="1981080" cy="26672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5808600" y="35244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phabetic Princi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Core Phonics, Words their Wa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LETRS Morphological Awaren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3124080" y="228600"/>
            <a:ext cx="288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ocabulary and Comprehe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DRA/SRI, Core Vocabulary  and Critchlaw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2019240" y="341316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uency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ORF, Fry and RA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5"/>
          <p:cNvSpPr/>
          <p:nvPr/>
        </p:nvSpPr>
        <p:spPr>
          <a:xfrm flipH="1" flipV="1">
            <a:off x="4724280" y="3276360"/>
            <a:ext cx="1447920" cy="25146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7391520" y="3352680"/>
            <a:ext cx="1371600" cy="24386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5791320" y="5000760"/>
            <a:ext cx="2971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dity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Blen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Seg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nemic Manipul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5234040" y="1436760"/>
            <a:ext cx="4076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bet Ski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and Deco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Skil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6491160" y="101124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ph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5"/>
          <p:cNvSpPr/>
          <p:nvPr/>
        </p:nvSpPr>
        <p:spPr>
          <a:xfrm>
            <a:off x="4815000" y="29718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Orthographic errors on spell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619440" y="53229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2235240" y="40687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F R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2525760" y="439596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F Accura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5348160" y="388620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honeme errors on spelling t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4"/>
          <p:cNvSpPr/>
          <p:nvPr/>
        </p:nvSpPr>
        <p:spPr>
          <a:xfrm>
            <a:off x="3200400" y="486576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naming R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9"/>
          <p:cNvSpPr/>
          <p:nvPr/>
        </p:nvSpPr>
        <p:spPr>
          <a:xfrm>
            <a:off x="3809880" y="10810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Lev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0"/>
          <p:cNvSpPr/>
          <p:nvPr/>
        </p:nvSpPr>
        <p:spPr>
          <a:xfrm>
            <a:off x="3201840" y="1776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Language Vocabul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1"/>
          <p:cNvSpPr/>
          <p:nvPr/>
        </p:nvSpPr>
        <p:spPr>
          <a:xfrm>
            <a:off x="2286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2"/>
          <p:cNvSpPr/>
          <p:nvPr/>
        </p:nvSpPr>
        <p:spPr>
          <a:xfrm>
            <a:off x="228600" y="51814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1"/>
          <p:cNvSpPr/>
          <p:nvPr/>
        </p:nvSpPr>
        <p:spPr>
          <a:xfrm>
            <a:off x="5624640" y="458784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ner Auditory Analysi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5"/>
          <p:cNvSpPr/>
          <p:nvPr/>
        </p:nvSpPr>
        <p:spPr>
          <a:xfrm>
            <a:off x="2514600" y="2681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Vocabulary (SRI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53352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ading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2:32:23Z</dcterms:created>
  <dc:creator>Robert Frantum-Allen</dc:creator>
  <dc:description/>
  <dc:language>en-US</dc:language>
  <cp:lastModifiedBy>Jamie Spears</cp:lastModifiedBy>
  <cp:lastPrinted>2012-04-08T17:21:35Z</cp:lastPrinted>
  <dcterms:modified xsi:type="dcterms:W3CDTF">2012-04-08T17:23:40Z</dcterms:modified>
  <cp:revision>37</cp:revision>
  <dc:subject/>
  <dc:title>Slide 1</dc:title>
</cp:coreProperties>
</file>